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04E98-FE2B-4779-9831-D36A4FCCE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8A665-EDCE-4258-9C10-3303A0859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211EF-BCC5-41F2-8C20-5C5AB8DB4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FB7DB-011A-4BAF-BE15-1DF0D5634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0E318-8CDC-40D3-A3B3-1EF2D41C5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EC473-7446-411B-9B09-8B9EF2D54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64098-988B-47E5-A72C-DEB2F4125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FC5BC-9F4B-4479-AB05-16C46E6BD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2C7B7-7225-49EA-BDA1-860DB8331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50A63-0B62-4886-88A0-6D684502C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80BA5-81B6-4A93-BE26-6EED2D7B6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4E44E-1276-40A6-96CD-C2FA2A1CB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0F188-B907-4679-BAE6-3396C84EB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C7163-C7A1-4C95-B3C4-301B6ACD6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0D094-E8F1-4C8A-99E3-5E4E42045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729A0-E358-4391-92E5-9C4422174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16944-C12E-48D5-A64E-CB0A949AA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1BCCD-0B3C-4484-BE91-EB397AA81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72A04-E56D-49C6-90E4-931845AB1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45AFA-FFAF-4750-BE87-5C70F358D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B7215-CFA8-4472-B53A-4D4566587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A1052-6632-447F-9688-A5A873A2D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C49B3-B260-45CF-98AF-E4FA8F2B04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5DE8C-448C-4F5C-B869-FC9A9FD91F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3F099-FB58-43B1-859C-7A25AE2BDB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536BD-9FBB-44F8-BF06-E19B57BB59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9495-AE7D-4B41-96C1-869CF4F5A1F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5AA6-C455-4297-866C-B18A7DB1189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7667-B821-4011-8E06-ED05423E5BE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680C-FE62-4BDD-8310-0D304EB8876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1D94-474A-45E2-ADF8-89C1F1B9848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44E5-508B-4B17-B0FF-9BADD98180A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692D-CE9E-492A-9251-A9287134F5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D0AAA-D9DB-4778-AC7D-AD82610686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BC36-0716-44B0-8699-2DDD9F3BBF1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D3F6-B58B-425E-88F6-C348E5E0D4D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176B-B503-44CC-8329-4BA5639E82E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37DF-CFAC-4201-BD4A-C9BA1EEE930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ACB4-64C3-4947-A9B2-5876692512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3408C-A10F-400C-863A-B3572BB8E6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02874-0F6D-4F8F-A7D3-829A48B252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5D942-D2BF-4BAE-AD2B-DC6CCF82D1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C194B-DA25-4696-ADA0-7A6CD26FDA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404C3-8C85-46E4-B95A-7515C7CD2A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1859A-EE0D-480D-A4CD-4C207266FF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01DAB-A7DA-4835-AF6B-392C77CD71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E3233-9DEA-44D1-B7B6-6EC4D98B38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DED8F-41DC-4F88-B22A-499B4E528D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B9010-D0FC-48FB-AA1E-C3FB214B47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Contrôle Qualité :  </a:t>
            </a:r>
            <a:br>
              <a:rPr sz="3600"/>
            </a:b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Diagnostics moléculair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44C1E-DD0B-4EA1-B7AE-7762DE7A31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ABB1C-768C-4128-BC31-271B335754C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ltat négatif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72210-B893-42FB-9513-F1C99BDCF0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F74FC-3991-427B-A179-52DC7D011F2C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isques avec la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plupart des RT-PCR sont faîtes « sur place »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primers ne sont pas nécessairement optimisés pour le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contrôles positifs sont « maison 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contrôles négatifs sont « maison 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interprétation des tests a besoin d’être faite prudem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D299C-684E-4313-B9A2-7AB2F4931A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C317-957A-4F6C-BD76-19323ED39C38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Vue généra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00"/>
                </a:solidFill>
                <a:latin typeface="Verdana"/>
              </a:rPr>
              <a:t>Prélèvement, transport, et traitement de l’échantill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aintenir l’intégrité des acides nucléique à travers tous le process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00"/>
                </a:solidFill>
                <a:latin typeface="Verdana"/>
              </a:rPr>
              <a:t>Contrôle de la contamin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établir un circuit unidirectionnel de la zone de préparation des réactifs (ADN free) à la zone de traitement de l’échantillon, à la zone d’amplification et de détec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00"/>
                </a:solidFill>
                <a:latin typeface="Verdana"/>
              </a:rPr>
              <a:t>Contrôles positif et négati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00"/>
                </a:solidFill>
                <a:latin typeface="Verdana"/>
              </a:rPr>
              <a:t>Référence: CLSI MM3-A (Méthode de diagnostic moléculaire pour les maladies infectieu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6FBF2-01B5-478A-8468-DDBB1CACB9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DC061-7D89-423E-8220-2CAC6126A70A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Qualité:  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iagnostics moléculair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A4CBC-8383-431E-AEE1-5313F2B9BB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FF749-E28B-4980-9BA2-27D1231BDB1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CDE92-229C-4003-95B6-508D2410B8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0F0C7-5C2B-4643-9376-7EC6B83928DD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al Time-PCR (temps réel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Oval 3"/>
          <p:cNvSpPr/>
          <p:nvPr/>
        </p:nvSpPr>
        <p:spPr>
          <a:xfrm>
            <a:off x="152280" y="1600200"/>
            <a:ext cx="144792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ECHANTIL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Cible AN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 amplifié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 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BEE8B-8C6C-4A54-85CD-E00D283D2B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5D1C3-BB21-4AEE-94EF-B34D750A72E0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actions d’amplif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Amplification / Te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5412600" y="4724280"/>
            <a:ext cx="23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PAS d’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4EE5D-4A75-4C13-9607-287519B931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28357-EDA2-4461-B35B-EBE530A4F45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228600" y="1305000"/>
            <a:ext cx="8153280" cy="495288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2"/>
          <p:cNvSpPr/>
          <p:nvPr/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al Time-PCR (temps rée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4C10A-1AC4-4AEE-8402-DF2FFC1ED2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DFBD1-92CE-4886-934B-D9E819A6DD6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264E7-CDAF-4980-BAB9-8B86132D56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9C0A-9EDE-4296-8319-CF861394AB2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dolmazonv</cp:lastModifiedBy>
  <dcterms:modified xsi:type="dcterms:W3CDTF">2010-04-08T14:42:55Z</dcterms:modified>
  <cp:revision>7</cp:revision>
  <dc:subject/>
  <dc:title>Quality Control:   Molecular Diagnostics</dc:title>
</cp:coreProperties>
</file>